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Book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02D4-C547-426C-AA31-059F1B9D74F8}" type="slidenum">
              <a:rPr b="0" lang="en-US" sz="1200" spc="-1" strike="noStrike">
                <a:solidFill>
                  <a:srgbClr val="000066"/>
                </a:solidFill>
                <a:latin typeface="Bookman"/>
              </a:rPr>
              <a:t>&lt;number&gt;</a:t>
            </a:fld>
            <a:endParaRPr b="0" i="1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5935-3E04-493F-A89B-9433A28E4031}" type="slidenum">
              <a:rPr b="0" lang="en-US" sz="1200" spc="-1" strike="noStrike">
                <a:solidFill>
                  <a:srgbClr val="000066"/>
                </a:solidFill>
                <a:latin typeface="Bookman"/>
              </a:rPr>
              <a:t>&lt;number&gt;</a:t>
            </a:fld>
            <a:endParaRPr b="0" i="1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91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391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3360" y="42033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213372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4400" y="213372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20336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4400" y="420336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3360" y="42033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391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000066"/>
                </a:solidFill>
                <a:latin typeface="Verdana"/>
              </a:rPr>
              <a:t>SIIA – McGraw-Hill  June 28, 2005</a:t>
            </a:r>
            <a:endParaRPr b="0" i="1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609480" y="6248520"/>
            <a:ext cx="762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685800" y="6248520"/>
            <a:ext cx="7467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80" y="32004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upreme Court Decision 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Kirtsaeng v. John Wiley &amp; Sons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n SIIA Briefing to Discuss What the Court Said and the Potential Fallou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Keith Kupferschm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General Counsel and SVP, Intellectual Proper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March 21, 20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7010280" y="5181480"/>
            <a:ext cx="190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Issue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ther the first sale doctrine applies to copyrighted products that were legally manufactured abroad and then imported into the United States without the authority of the publisher (Wiley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ellate court in New York said “No, the first sale doctrine does not apply” and found Kirtsaeng liable for copyright infrin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Holding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33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 6-3 decision, the Court overturned the appellate court decision and held that the first sale doctrine applies to copies of copyrighted works that are legally manufactured abro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opinion:  Written by Justice Breyer, joined by the Chief Justice and Justices Thomas, Alito, Sotomayor, and K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urring opinion: Written by Justice Kagan, joined by Justice Al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senting opinion: Written by Justice Ginsburg, joined by Justices Kennedy and Sca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ecision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04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su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ther the words ‘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awfully made under this title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trict the scope of … the first sale doctrine geographically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urt found that the statutory language, its context, and the common-law history of the first sale doctrine, taken together favor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n-geographic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rpre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urt held that the five-word phrase meant nothing more than “in compliance with” or “in accordance with” and “says  nothing about geography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Everybody Loves a Parade”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33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ity was sympathetic to the “parade of horribles” complained of by libraries, book sellers, technology companies, consumer-goods retailers and museu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jected Ninth Circuit and Solicitor General’s compromise approa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ity acknowledge the potential havoc it was wreaking on publishers’ business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oncurrence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ice Kagan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irtsae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ision in combination wit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’anz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ision destroys the copyright owner’s ability to engage in market segmentation and price differenti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 is due to an incorrect decision 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’Anz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the decision 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irtsae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what Congress inte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s on Congress to fix the problem (with importation right in section 602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issen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ed the Court’s decision “absurd” and the majority’s interpretation of the five word phase an “unnatural construction.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ity position contrary to U.S. policy and legislative hi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ice Ginsburg rains on the “parade of horribl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 use and Implied license def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monade?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ity concludes that Copyright Act applies extraterritorial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language in the opinion that can be used to bolster existing position that the first sale doctrine does not apply to software or digital content that is licen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allou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not apply to licensed produc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ket segmentation and price differentiation at your own ris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oding of U.S. market with foreign products – even licensed produ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xt Steps?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suggestion of the concurrence and push a congressional fix to section the importation right in 602(a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that would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 first sale defense in 109(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ers alter business mode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 more quickly to a licensing mod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cing and other business models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ith Kupferschm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 Counsel &amp; SVP, Intellectual Prop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&amp; Information Industry Assoc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2) 789-444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ithk@siia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’s Webcas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cessary 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the Supreme Court said and w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t me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’s at Issue in the Case?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efense to copyright infringement called the First Sale Doctri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ified in Section 109(a) of the Copyright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a person who buys (rather than licenses) a copy of a copyrighted work to resell, distribute or otherwise dispose of the copy without the publisher’s per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sue i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irtsae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he first sale doctrine applies to copyrighted products that were legally manufactured abroa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rigins of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rst Sale Doctrine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5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obbs-Merrill Co. v. Stra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reme Court first applies the “first sale” doct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copyright laws were not “intended to create. . . a restriction upon the subsequent alienation of the subject-matter of copyright after the owner had parted with the title to one who had acquired full dominion over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Sale Codified in the 1909 Copyright A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.27: “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…nothing in this Act shall be deemed to forbid, prevent, or restrict the transfer of any copy of a copyrighted work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ossession of which has been lawfully obtain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rst Sale Defen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. 109(a) of the Copyright Act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mitations on exclusive righ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ffect of transfer of particular copy or phonorec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twithstanding the provisions of section 106(3)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wne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of a particular copy …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awfully made under this titl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or any person authorized by such owner, is entitled, without the authority of the copyright owner, to sell or otherwise dispose of the possession of that copy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istribution Righ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. 106(3) of the Copyright Ac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6 of the Copyright A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clusive rights in copyrighted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bject to sections 107 through 122, the owner of copyright under this title has the exclusive rights to do and to authorize any of the following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3) to distribute copies … of the copyrighted work to the public by sale or other transfer of ownership, or by rental, lease, or lending;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" y="8380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Importation Righ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. 602(a) of the Copyright Act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fringing Importation of Copies or Phonorec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a)  Importation into the United States, without the authority of the owner of copyright under this title, of copies ... of a work that have been acquired outside the United States is an infringement of the exclusive right to distribute copie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der section 106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Quality King v L’Anza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8 SCOTUS case holding that that Section 602(a)’s reference to Section 106 incorporates the Section 109’s first sale doctri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ult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rst Sale Doctrine applies to works made in the United St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en if they were never sold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Quality K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initially manufactured in the United States and then sent abroad, sold and then –re-imported in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bout goods made outside the U.S.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acts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works involved in the case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ey’ nursing and other text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de in Thailand, not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d in Thai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rtsaeng’s friends and family purchased textbooks from Thailand and ship them to him in the U.S. where he sold them at a profit without authorization from the publis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7:45:52Z</dcterms:created>
  <dc:creator>Kevin Custer</dc:creator>
  <dc:description/>
  <dc:language>en-US</dc:language>
  <cp:lastModifiedBy>Keith Kupferschmid</cp:lastModifiedBy>
  <cp:lastPrinted>2002-04-02T21:32:01Z</cp:lastPrinted>
  <dcterms:modified xsi:type="dcterms:W3CDTF">2013-03-21T13:11:22Z</dcterms:modified>
  <cp:revision>317</cp:revision>
  <dc:subject/>
  <dc:title>No Slide Title</dc:title>
</cp:coreProperties>
</file>