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Daniel Rehak" initials="D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1-12-19T09:50:06.821000000" idx="1">
    <p:pos x="10" y="10"/>
    <p:text>New slide -- we've had problems in some ADL outreach with people wanting to go to the LR as a destination and couldn't do a publication without having the end user site to refer to.  Trying to be very explicit that it's not end user facing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dt" idx="58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233-E0C2-414B-9221-ACC3FF838F6B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ftr" idx="59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 type="sldNum" idx="60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5E79-BE2B-4E78-81DC-261DD256345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BA9E-5A95-4C39-8341-27187259FF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40 minutes for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20 minutes for Q&amp;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and Tasiyiwa build framework and send to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We will build the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ach panelist will address all of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can provide info on copy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rilby will mention trade mission to SG at ICT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ug global series work in working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uriya Aziz: VP Educational Publis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Log in at 8:45 E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 will open the c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Karen: Intro Mimi Jett *provide 2-3 sentence bio to Ka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intro each panelist with 2-3 sentence bi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Mimi will pose the questions to e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B will NOT address govt trends and spen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xpect 3-4 minutes on each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After Q&amp;A we will close with some announcements-talk about Global working group, future webinar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tay on line for post mor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end speaker release, bio, specific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Give website addresses for upcoming conferences, other research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7ACD-020D-4BEC-AFA3-B6D71264BE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DFCC-0C4E-4952-9A04-1428FC6ADC4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0BA7-CAA1-43DA-A6A2-7ADAB608651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EC56-7DF4-4BCC-AAD0-555577260E1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F19F-EE95-495D-8F8B-0E55E0A9F0E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E84F-F785-4FDD-BBCB-C6EE01B657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BEC4-B755-4EEC-AD14-A6C096B8D5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DD77-4B67-45FE-A0B9-E6B3676EE3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0E1-9923-4B77-B880-126FE5DAAD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24E0-399C-4602-997E-D1492962AA8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6617-39A7-4F78-B99A-3E7F4B494C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565-5B91-4247-B521-5123F031E9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2D59-2FC6-410B-BCBA-E9098102B63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250C-3E37-4322-8629-B050F0656E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2610-6D00-4B27-A6B3-7AFE4E7CB1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25E9-812E-4F50-8DCD-4372B924FBF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49EF-4519-4E53-8562-7E3D4440FA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521-5F28-4960-8E54-E85182C13D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B34A-4CAE-4C4C-BB34-6C7FA6DBE0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5DE-A13A-48B9-BFF8-D66C9D4CABC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4599-5B49-4C8D-A2B5-80B3D88B5BC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CD96-926E-4EA3-AAE3-F4D1AA2A68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920-36AA-41AF-9E31-5A3EF80FB84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8CB0-6A36-4C9A-952B-914809EC62B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4CBF-B6AA-42CE-8A1C-E78ABDFF69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E0F-0B72-4134-9A09-F6033D369A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on slide from last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pt:  to remind you of the SIIA vision K-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ADB9-97A3-40C3-A601-0E946ACA2ED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6071-6140-4F81-90C6-2ADDC148A8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69DC-B160-45B5-BA54-5B701C071D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376A-9874-4DDF-B49F-5DAF4EA5FA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3717-BADE-4C08-8E7C-7DE9C22CEC0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7C08-13A7-4475-8211-AC739AF760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D94-27F6-4D31-9B80-C52BE64A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653-95C6-4879-9CA3-BF7FAFB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FAE85-8209-4575-A208-EAB52764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0E525-3DE4-4DAB-B8BE-4E001703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8441D-E136-47DC-B151-DADE80D9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CEECD-64C3-4F19-A845-EBF8C10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84388-72AB-44AF-BC84-8CED2F4B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A5855-B83E-404D-A735-E115D74F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4D7DF-9CA1-4132-9756-D480FC2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B8D4B-D41C-4BD4-BB27-6457A10C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1C62F-7148-4EF3-8FA8-CEDA32CE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F2A25-8930-4E4D-BD5A-4C795369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26F-88CA-48C4-81F0-8363CA99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70239-2CB9-4A1D-9884-12D5B2DD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F35EA-F136-45F3-9656-966E7429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C2FDF-E2A5-47AB-8E07-FD69CC71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CD451-CAFB-43AF-8AC8-B2701B5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88922-CD5F-4A3B-B674-B6ECC620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BBCF7-D45F-4708-AE00-66F6114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7FBE1-0BC3-4285-8DB4-41B1E3B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7C9E6-4963-4E0F-B9BE-D476F3BA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F2B8E-A44C-4CFD-B802-0D56D35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6A05C-B999-4D33-84DE-614D5F4D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DAE-019A-4964-BB8B-968E43E1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9B437-FAEE-4E26-9A0E-411FCAC2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DFD7D2-85B4-43C9-8170-445E52DB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437209-50DD-4F34-A460-26B6E2D6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0E3D08-16DF-45DA-8AFD-A02131D3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09B2FB-5EE0-47FE-B09F-9427F8FF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E63DE1-1A85-4F85-BAA0-3FB63760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6B079E-3ACF-4FE7-9148-38663B6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B774CC-4A8B-40DE-9A95-9C57A68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87335F-5693-4D87-B4A4-93AFDFF4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E1CB27-463C-4038-A8AF-4F4E805F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641ED9-E798-4E56-90AA-35F34CD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408F72-2F64-4BE1-8B5A-D8013BAB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987A35-0649-4429-9D94-17603A8B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C35AE-53F8-44F6-83FA-DA91511A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95D69-1864-450F-8D8B-95A77E87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81A93-5745-4E27-BE5A-F9F086D1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B3A78-65C7-4F51-9089-7466736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E8BCB-BBEC-4D3A-AFEF-90C49E88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07F9B-7A0D-47AE-A70A-1DFBF62D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14322-716A-4CA8-B81F-DBFAD1B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B4F7A-36F2-4BD8-9A6B-8CFC734D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FB0BC-C6B6-4189-8E93-0A1EBBBD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47843-7370-4316-B873-130C601F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82D8F-7334-4C4C-A9D7-0993A4D4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FFF3F-FB03-4148-840A-F2B2E5C9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3DF8EA-1E48-41BB-A612-3A7D70F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9959C6-4E14-4F10-A55A-3E0E9E6F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DB5873-4388-4CB3-B952-C736E852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B00195-7709-49C7-891A-681E9D3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A4AD52-5A9B-474B-AB2C-350C3EA0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C44AD1-30D6-4FBB-8EFA-8C2DBB9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2720A4-FD12-4EC9-A11E-D7A0928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6BBB6F-029F-4FFD-9658-8B31D46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1330EC-8DEA-4491-A007-7426EA5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7752B8-467B-424A-BCA3-65B57F51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2653EE-03D5-47CC-89B5-8340F83B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E4B10B-57C5-4255-890E-0A3374DB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2B4F1-AC29-4599-BAB3-153E9BF9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F5627-E78D-4F12-87BE-0199F227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BD0F6-864B-4E4A-BBCA-720C5ED5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9E8255-E029-4A8C-BDAC-1D721B6D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EDED0-A82E-461B-B934-BFFA63E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1FF16-0524-4462-A952-F5049DB4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6AD53-1A9A-492B-91F0-C6789B48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5C1E4-439C-42C5-A9CA-799E2B2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64044-6581-4491-96D6-9955E38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919D0-5876-4613-89D0-05AEFB42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EAA72-9639-47D5-8567-39AAFCFE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7243B-08B7-49E1-9C3E-98429C86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8C673-897F-4A65-95E0-A7366A67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F4533-0E67-4EE1-8859-683AFDA0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80875-3D85-49AE-B096-5922C1F6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E17D2-DFBA-4393-8BC5-A2B47DB7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93976-5B22-4B2D-B938-EB4DF8A5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9315E-2674-4AAB-8A99-F097E112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A8F5B-1868-4929-BF64-175E0F4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CDD76-4E0A-47C5-AA90-755ED52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ABF10-68B8-404A-99A6-9C004344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BA226-C3CA-4BD5-AD5F-66FC12A0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66792-FD1F-4A7D-9C07-C0113138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884C4-3230-49BB-A6A4-759EC6D3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C4C73-C542-4C37-A754-0013FF70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853E8-9F06-42E9-AAAA-F149A9D6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01946-A6C3-4D85-816B-BDDA4F9D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3CE11-3E43-4C4D-85C1-6FA7ED3D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EAB86-89CA-4BA5-B6A6-03A952A9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154380-F354-475E-A3A8-A3826C0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D3494-DF10-43EB-9BA7-4CE3544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DF0-4377-4FB5-8B9E-56F19D0E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01BE0-8F2A-4982-8953-3E2C69B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2F2AA-F938-43C1-B288-8333FFF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9DE8B-340A-4AFD-B016-2334999F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6A1CA-FD56-4D09-AF5E-947E8426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74BBB-4D8F-4AE2-9C93-142963F3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8BF86-AD79-4EDA-B8C7-AC053BB5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1D5C0-72A6-4635-8DDC-0BE5CC27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35008-9909-4B26-8F30-E1B146CB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BFCA8C-C44C-4E20-8132-6FF90C92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4E5E0-D883-42AD-8C47-B3021CC7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6E59F-CCF2-49A9-BE1D-02B6EF7B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0E5CA-FDF2-4D95-BB47-1A87E6F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DBEDE-C3F3-46E9-8677-1CAFAC8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63930-88C9-4DF4-AD56-9BA0847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C915BC-C70B-4697-9F7C-91D8CDB0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434B1-AD65-4097-BDC1-A9133FD1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1D2E3E-72BE-443B-9C45-FDBA5DD5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17E0C-92F7-4E27-A00A-EA671BA6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1DA42F-11C1-4925-8394-FD990D0C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94243-62DD-4C62-8B23-72D33342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EB1CB-C585-4B70-8910-CE53A98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C3A9B-1684-455B-A2C6-3D61D915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26073-CF9E-4739-85F6-126987BC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0F3E5-50FC-44C3-AD42-1852DEB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B3A95-5526-4C63-9DFA-CBEF5FF3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3AFB8-D4E9-4ACD-A9D0-C9D021E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7984FA-4994-456E-9BE1-67B84324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996C7-B4BC-419A-B66C-C2732A01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DF388-02C3-42D1-B047-C3A652E2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433B8-BC32-428D-BDD0-EC8869D5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525B3-965D-46D3-83B6-2386E943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E5F53-8E18-478D-9CF8-305F7CEF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869DF-D668-42BA-A651-FB1A6278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D8FCD-0B66-47B2-9028-512AC3A3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9A248-9511-40C2-A8AC-0CF834B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39F3ED-99B6-4498-9990-C3D4A8C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0F2D56-36B2-4D21-B60F-D33A864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1A2B1-E38C-40F7-B46F-0B5ADB03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8BF63-1C2F-4E4F-A1E1-5B7B473D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ED9FA-94ED-4534-B93D-187EF2AB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888CC-5565-4B8D-BB05-09B1D5E8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8F54F-F3BE-4A3F-A930-7DCD5F09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B59B2-2A51-4263-80DE-B7A4836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10AD8-FA9F-4324-A55A-11A42764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29193-7509-461F-A702-B58CC7AA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F3CBC-DB0A-42B9-BD5E-1EAB875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91E-1011-4793-AB9B-10278CA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7C01A-0B07-45B7-931F-8C14FD94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D721-C422-4EBA-888D-13402620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792BC-6649-4268-A23D-7F88ED97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3A194-9F8D-4065-BE01-7826F72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66DE5-09E6-4824-A8BD-CC576125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55812-8F93-4642-992B-15AC947A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0B042-8502-4BEA-AF6D-8D41868F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BCD-B70C-4AE6-AA27-0CA35FC6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FAEA5-32D6-41CA-A5B9-76A38CB1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FD6-1E72-4E16-A667-CE99663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44E3D7-9C13-46BE-8A21-252F2907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622965-5C78-4852-8198-DA352097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63D1D-13C5-4FF1-A0F8-0A02E3AA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D396B7-9151-4BB1-9BF9-78588B79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234EA0-B8F9-44D3-851A-62FDE52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27FE06-AD0E-4ECF-A64B-7B66387F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34EE9-FFF8-4156-8AA5-70CE050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867037-4C86-43BB-B494-3077D8A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C309B-4678-41E1-B751-7BDDB2E3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1D8B08-35A1-4C78-B237-1EA0D2EE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783-EEBB-4AD5-B50C-45C91F7C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7948D8-3249-44FD-A0F9-8D2B8DF6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F8E9C7-E56B-4DAB-A7DB-382B96F8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48627-D51A-4BF6-B7FA-50D6F6A5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B2282A-6835-45D3-902F-320F4B5D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3963D-A963-45C7-AC04-8A974BA3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87C04-FA8C-42DB-9CBC-6A0B5FB2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31C2AC-DA89-441B-9A19-599D1AD5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ECD0C-BCFE-45CF-ADD2-4AAF2BAB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29A62-9531-4EA3-9F69-B73FBA07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2DAD15-8C34-46EA-BE5D-5EF993F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2DE-96F5-4FB5-AD75-A7A41C2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10DA23-3C84-4799-8524-282F56D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F5D39F-4736-4EC1-9743-99E3F820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F0A52B-40A3-406B-B9A8-2DEF71AE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1E0D85-A493-4105-972C-693A7EB2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7E928-5DBD-4F02-8067-ABD836DA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11BF1C-7521-4F45-806B-2C8E492B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7B861D-B25C-4890-83D5-8F352A0D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034F64-5156-4051-9D44-4FD2DA33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F8A6B7-9898-4DB6-9D0D-FF759A54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F89696-97C0-4A84-894A-2AC951C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C8A-A867-42F4-AD3D-B339894A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300862-F83B-437B-9E2E-9039EC3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01F383-28EB-4F6B-9EE6-F210792D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8916D0-9ABC-48F2-8C4F-35DD01EA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609C8F-5508-405F-8300-48729B69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312E2-63F0-498D-8CD7-CC1902AB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ACA5F2-41B1-4FB0-9519-A9419FA3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D8C926-5829-4F66-95EA-39B9A207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1E9B08-A675-4C25-AD30-2086556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095D79-6E38-4574-9547-A6F352BE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6804CE-39F4-4B48-930A-58EA79F9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C7C-F439-4BE9-9FA0-4783C268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94D1C3-79D9-4D4A-A3F6-5E6D31AE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1A5592-A317-4B63-B5FD-A12648F5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21DF2E-F76B-4934-8E17-BE8E8BE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05AF23-23C5-4111-A1C5-51F4F34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B80F13-6DBA-4C7D-A518-5F9E033F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BED700-0DB3-4C87-8779-5F403D52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1AADAD-2E55-4CBD-A45C-54EB1E9B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5A747-78DB-4328-A6D2-3AD27410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DE6E5-083C-4D5F-B648-24A1AD6B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0864C-B2CE-4B7A-9263-9CB2463D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45C-C77B-43D8-9A5A-EDCA18000A1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F278-3BD0-4EFE-9988-35B5A75A270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AC88-24B3-4C38-B9E1-E9A779A6FC8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338A-F30D-412B-9EA1-F09E80BECB5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4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F5EF-A542-445F-8462-A9CFF130F88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B646-68C5-4CDA-915B-D7A7654DA17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B43-8A43-4418-849D-DC4431D3496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944E-DD92-4A16-91A9-A08310FC17A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8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336C-EC1D-44F2-973F-82A0EDB2284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10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9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58d"/>
                </a:solidFill>
                <a:latin typeface="Rockwell"/>
                <a:ea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8D9A-9174-4846-94C7-2B9C5EB9BAF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63f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4d6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FAC-1557-4B9C-917C-F1961389867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E1C4-FAF0-43DF-B533-D1B59DA5C01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9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0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0DD9-A92A-4512-A8CB-B60BD79CC02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8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AD84-9225-49B5-873B-94180D2EFEF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0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da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6231-F67C-4F9F-B27F-922030A5FFC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9BCB-4D5E-4692-ADDE-ABF93EAB005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9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  <a:ea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3637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373b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Rockwell"/>
              </a:rPr>
              <a:t>2010-09-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ABD-F7CB-41B0-A83C-592EF38DC11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iia.net/education" TargetMode="External"/><Relationship Id="rId2" Type="http://schemas.openxmlformats.org/officeDocument/2006/relationships/hyperlink" Target="http://siia.net/events/events.asp" TargetMode="External"/><Relationship Id="rId3" Type="http://schemas.openxmlformats.org/officeDocument/2006/relationships/hyperlink" Target="http://www.siia.net/etgf" TargetMode="External"/><Relationship Id="rId4" Type="http://schemas.openxmlformats.org/officeDocument/2006/relationships/hyperlink" Target="http://www.elabs3.com/c.html?rtr=on&amp;s=gvf,1e1xn,5koo,c5ts,1ayy,k3qe,l5xr" TargetMode="External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152280" y="33526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Rockwell"/>
              </a:rPr>
              <a:t>The Learning Registry: A How To Primer for Digital Content Publishers and Aggregators</a:t>
            </a:r>
            <a:br>
              <a:rPr sz="4000"/>
            </a:b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Rockwell"/>
              </a:rPr>
              <a:t>December 20, 2011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6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Any form of metadata can be shared, but the community today is focused on exchanging specific metadata around resources and standards alignment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0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ommon Core implementation is accelerating demand for quality digital content that has been aligned to standards by curricular expert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s well as resources that have been vetted by educators for relevancy to specific standard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standards aligned learning resources are dispersed across the web and teachers have too little time to find them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Currently, knowledge about what learning resources are useful is not shared across the web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have the web tools to create rich resource discovery experiences and usage data…but how do we share?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haring standards alignment data through Learning Registry can help put relevant content  in the hands of teachers…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…and illuminate the “social life” of learning resource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How-to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285640" y="2752560"/>
            <a:ext cx="613404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With Learning Registry technology today it is possible to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onsum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standards alignment data from others, and to share standards alignment data about your resourc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286000" y="27428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In order to participate you will either run a Learning Registry server (called a 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node</a:t>
            </a:r>
            <a:r>
              <a:rPr b="1" lang="ja-JP" sz="2500" spc="-1" strike="noStrike">
                <a:solidFill>
                  <a:srgbClr val="ffffff"/>
                </a:solidFill>
                <a:latin typeface="Rockwell"/>
              </a:rPr>
              <a:t>”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), or partner with an organization who is running a node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7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286000" y="2743200"/>
            <a:ext cx="60199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 node maintains a copy of the metadata and provides the APIs to publish and consume it.  Nodes are infrastructure, you build applications that use  i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3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5640" y="2590560"/>
            <a:ext cx="563868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day, the Federal government is running three nodes, and there are several other organizations running or planning to run node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nnouncement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o access the audio of this webinar, you must dial 866-740-1260, 7894444#.  Audio is NOT available via the web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is webcast is being recorded. The audio visual file and presentation slides will be available on the SIIA Education Division home page.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1"/>
              </a:rPr>
              <a:t>www.siia.net/education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ubmit questions at any time via the 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Chat</a:t>
            </a:r>
            <a:r>
              <a:rPr b="0" lang="ja-JP" sz="2400" spc="-1" strike="noStrike">
                <a:solidFill>
                  <a:srgbClr val="595959"/>
                </a:solidFill>
                <a:latin typeface="Rockwell"/>
              </a:rPr>
              <a:t>”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featur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1400" indent="-221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SIIA Events: </a:t>
            </a:r>
            <a:r>
              <a:rPr b="0" lang="en-US" sz="2400" spc="-1" strike="noStrike" u="sng">
                <a:solidFill>
                  <a:srgbClr val="1d3d5e"/>
                </a:solidFill>
                <a:uFillTx/>
                <a:latin typeface="Rockwell"/>
                <a:hlinkClick r:id="rId2"/>
              </a:rPr>
              <a:t>http://siia.net/events/events.asp</a:t>
            </a: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BETT 2012, January in Lond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Government Forum, March 7-8 in DC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3"/>
              </a:rPr>
              <a:t>www.siia.net/etg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spcBef>
                <a:spcPts val="601"/>
              </a:spcBef>
              <a:buClr>
                <a:srgbClr val="83858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Industry Summit, May 6-8 in SF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4316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IA Ed Tech Business Forum, Nov 28–29, 2011 – Archive at </a:t>
            </a:r>
            <a:r>
              <a:rPr b="0" lang="en-US" sz="2000" spc="-1" strike="noStrike" u="sng">
                <a:solidFill>
                  <a:srgbClr val="1d3d5e"/>
                </a:solidFill>
                <a:uFillTx/>
                <a:latin typeface="Rockwell"/>
                <a:hlinkClick r:id="rId4"/>
              </a:rPr>
              <a:t>http://bit.ly/OnlineETBF</a:t>
            </a: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1F7E-884D-4EA3-8681-06D0D58C6D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o read metadata out of Learning Registry your technical team needs to process a JSON header, and pull either JSON or XML metadata into your data systems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89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To send metadata to the Learning Registry your technical team needs to publish a cryptographic “public key,” and convert your internal metadata into a format the larger community is using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6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285640" y="2981160"/>
            <a:ext cx="60958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estimate that it will take an engineer familiar with web technologies about 3 days to publish data into production. Consuming data is more variable depending on how you will use them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586728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Currently the Learning Registry mainly contains metadata, published from a number of collaborators, about resource classification and usage data. 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15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Standards alignment data is shared as both classification data (New York state officially aligned Resource X to Standard Y), and as usage data (Teachers of migrant students used Resource X in a lesson aligned to Standard Y)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5640" y="2980800"/>
            <a:ext cx="6172200" cy="204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Multiple existing metadata formats can be used for sharing classification data.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Learning Registry community has created new formats for sharing usage data that function more like social networking data than library data. Other formats may emerge. 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8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285640" y="259092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The standards alignment metadata work is largely waiting on the publication of universal metadata ID’s for common core standards to be published by NGA/CCSSO in early January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58672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We would encourage you to have your engineers engage with our technical team to begin understanding what specific approaches will work for you.</a:t>
            </a:r>
            <a:endParaRPr b="0" lang="en-US" sz="2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9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40080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Interested parties should join the Learning Registry announcement mail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registry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Product and system managers should join the collaboration mailing list:</a:t>
            </a:r>
            <a:br>
              <a:rPr sz="1700"/>
            </a:br>
            <a:br>
              <a:rPr sz="1700"/>
            </a:br>
            <a:r>
              <a:rPr b="1" lang="en-US" sz="1300" spc="-1" strike="noStrike">
                <a:solidFill>
                  <a:srgbClr val="ffffff"/>
                </a:solidFill>
                <a:latin typeface="Rockwell"/>
              </a:rPr>
              <a:t>http://groups.google.com/group/learning-registry-collaborate/</a:t>
            </a:r>
            <a:endParaRPr b="0" lang="en-US" sz="13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0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Agenda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elcome - Mark Schneiderman, SII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Overview &amp; Speaker Introductions – Gail Lewis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Background, Status and Goals – Steve Midgle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R How To Primer – Steve Midgley and Susan Van Gund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Reaction / Q&amp;A - Al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610B-26E2-4523-B46E-AC699D057E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Next steps:</a:t>
            </a:r>
            <a:br>
              <a:rPr sz="1900"/>
            </a:br>
            <a:r>
              <a:rPr b="1" lang="en-US" sz="1900" spc="-1" strike="noStrike">
                <a:solidFill>
                  <a:srgbClr val="ffffff"/>
                </a:solidFill>
                <a:latin typeface="Rockwell"/>
              </a:rPr>
              <a:t>Appropriate technology staff should join the technical mailing list:</a:t>
            </a:r>
            <a:br>
              <a:rPr sz="1700"/>
            </a:br>
            <a:br>
              <a:rPr sz="17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groups.google.com/group/learningreg-dev/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286000" y="2980800"/>
            <a:ext cx="6324480" cy="16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Documentation and information is available at:</a:t>
            </a: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://www.learningregistry.org/documents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19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0" y="2981160"/>
            <a:ext cx="6324480" cy="143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Rockwell"/>
              </a:rPr>
              <a:t>Open licensed source code and a developer wiki is available at:</a:t>
            </a:r>
            <a:br>
              <a:rPr sz="2300"/>
            </a:br>
            <a:br>
              <a:rPr sz="2300"/>
            </a:b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https://github.com/LearningRegistry</a:t>
            </a:r>
            <a:endParaRPr b="0" lang="en-US" sz="18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520" y="4624560"/>
            <a:ext cx="6172200" cy="12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Thank You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800600" y="53341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Many slides credit to: 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aniel R Rehak, PhD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ADL Technical Advisor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  <a:ea typeface="Arial"/>
              </a:rPr>
              <a:t>Department of Defense</a:t>
            </a: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30" name="TextBox 3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304920" y="446076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1032" name="Subtitle 2"/>
          <p:cNvSpPr/>
          <p:nvPr/>
        </p:nvSpPr>
        <p:spPr>
          <a:xfrm>
            <a:off x="2286000" y="47242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 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Deputy Direct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Office of Ed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US Dept of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ckwell"/>
              </a:rPr>
              <a:t>steve.midgley@ed.gov / @stevemidg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ubtitle 2"/>
          <p:cNvSpPr/>
          <p:nvPr/>
        </p:nvSpPr>
        <p:spPr>
          <a:xfrm>
            <a:off x="457200" y="1676520"/>
            <a:ext cx="403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ww.learningregi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473760" y="9907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Learning Reg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373b"/>
                </a:solidFill>
                <a:latin typeface="Rockwell"/>
              </a:rPr>
              <a:t>Speakers</a:t>
            </a:r>
            <a:endParaRPr b="0" lang="en-US" sz="40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eve Midgley, Deputy Director of Education Technology, U.S. Departmen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usan Van Gundy, Director of Education and Strategic Partnerships, National Science, Technology, Engineering, and Mathematics Digital Library (NSDL)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36373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Gail Lewis (Moderator), Senior Product Manager, Capstone Digita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AB6C-81AE-48A9-93E8-2C415BC921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e Learning Registr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Project</a:t>
            </a:r>
            <a:endParaRPr b="0" lang="en-US" sz="36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800600" y="5346360"/>
            <a:ext cx="403848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Primary Funding from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Educatio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  <a:ea typeface="Arial"/>
              </a:rPr>
              <a:t>US Dept of Defens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8" name="Subtitle 2"/>
          <p:cNvSpPr/>
          <p:nvPr/>
        </p:nvSpPr>
        <p:spPr>
          <a:xfrm>
            <a:off x="609480" y="5334120"/>
            <a:ext cx="5181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819520" y="28954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Overview</a:t>
            </a:r>
            <a:endParaRPr b="0" lang="en-US" sz="3200" spc="-1" strike="noStrike">
              <a:solidFill>
                <a:srgbClr val="36373b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istributed system that permits sharing of metadata about learning resources..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2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…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developed through an open community process that engages learning resource creators, publishers, curators, and consumers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8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5640" y="2743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Learning Registry is a data exchange mechanism—not a destination website, search engine, or repository—upon which diverse user services can be built.</a:t>
            </a:r>
            <a:endParaRPr b="0" lang="en-US" sz="2500" spc="-1" strike="noStrike">
              <a:solidFill>
                <a:srgbClr val="36373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285640" y="4495680"/>
            <a:ext cx="56386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4" name="TextBox 4"/>
          <p:cNvSpPr/>
          <p:nvPr/>
        </p:nvSpPr>
        <p:spPr>
          <a:xfrm>
            <a:off x="152280" y="6632640"/>
            <a:ext cx="403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© Copyright 2010 US Advanced Distributed Learning Initiative: CC-BY-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7772400" y="66168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Rockwell"/>
              </a:rPr>
              <a:t>201010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2438280" y="4648320"/>
            <a:ext cx="56390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981080" y="3200400"/>
            <a:ext cx="304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58d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31:48Z</dcterms:created>
  <dc:creator>Rehak</dc:creator>
  <dc:description/>
  <dc:language>en-US</dc:language>
  <cp:lastModifiedBy> </cp:lastModifiedBy>
  <cp:lastPrinted>2010-09-27T13:40:12Z</cp:lastPrinted>
  <dcterms:modified xsi:type="dcterms:W3CDTF">2012-01-03T20:43:44Z</dcterms:modified>
  <cp:revision>524</cp:revision>
  <dc:subject/>
  <dc:title>Advanced Learning Technologies Innovation Strategy</dc:title>
</cp:coreProperties>
</file>