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</p:sldIdLst>
  <p:sldSz cx="9144000" cy="6858000"/>
  <p:notesSz cx="7315200" cy="9601200"/>
</p:presentation>
</file>

<file path=ppt/commentAuthors.xml><?xml version="1.0" encoding="utf-8"?>
<p:cmAuthorLst xmlns:p="http://schemas.openxmlformats.org/presentationml/2006/main">
  <p:cmAuthor id="0" name="Daniel Rehak" initials="D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1-12-19T09:50:06.821000000" idx="1">
    <p:pos x="10" y="10"/>
    <p:text>New slide -- we've had problems in some ADL outreach with people wanting to go to the LR as a destination and couldn't do a publication without having the end user site to refer to.  Trying to be very explicit that it's not end user facing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58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BD0D-0726-4134-9255-E10C934A0CF4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ftr" idx="59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 type="sldNum" idx="60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3621-DDA7-4472-8C75-6014C81F99F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1E8E-19B4-4BFA-9E70-867529703CB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40 minutes for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20 minutes for Q&amp;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and Tasiyiwa build framework and send to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e will build the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ach panelist will address all of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can provide info on copy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rilby will mention trade mission to SG at ICT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lug global series work i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uriya Aziz: VP Educational Publis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Log in at 8:45 E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will open the c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: Intro Mimi Jett *provide 2-3 sentence bio to 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intro each panelist with 2-3 sentence bi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pose the questions to e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B will NOT address govt trends and spen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xpect 3-4 minutes on each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After Q&amp;A we will close with some announcements-talk about Global working group, future webinar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tay on line for post mor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end speaker release, bio, specific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Give website addresses for upcoming conferences, other research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CF37-AD8A-4756-B512-FCC0AC82068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D01E-847A-42DB-8103-3A11E121612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B526-D2D1-4AD6-8385-0083FFFCFCE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DB33-1654-4200-AF2D-AD4C9979042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82DC-ADD4-4529-8F25-99F706A56CF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AFB8-F354-482E-99D8-E9752A2D39A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EDB2-2233-4FD5-82F7-362D796591E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85E6-59FF-4B22-B782-1CF08F757ED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9E6E-F90C-4B59-BE4D-E4213F74C77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D472-6D36-4E92-8647-9896C297418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E9AD-D1D4-4130-B4D1-595A4457529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7BA5-BDB4-4201-9258-1CCBDE6092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9193-3DAA-4744-9397-1B0CC2A5F64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374D-8D05-4617-ABFE-F3F8EAE88B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C23C-3609-458D-A066-3FE01CF3656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7AA5-0D0C-49E5-8124-B4300486E79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7B1C-3577-49FF-A033-5093E7689E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7FB0-4AC1-4149-AABC-BE353E11FB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7D63-13BC-4E21-95C8-C349B8E02CE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67B6-DC1F-4E39-9613-4621144E08A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B82D-5E8C-4CC1-A9F4-135B764D932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5252-315F-400E-BFF5-12B6C02A342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5EA1-2BAD-4F57-977F-8ABF4D2D59D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046E-E046-40E9-8099-F75E383123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22B6-50D3-4872-A00C-C8B463F665A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556E-1966-4789-8D98-64B56C37835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E73E-6C5D-43A5-9BFB-BB32722639E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3B70-F5E4-4DC1-8873-704B191699D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F937-CD18-4DBB-99F0-BF14A787975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2865-B08F-4963-9C2A-C77638F36F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0CB2-4ECA-47A0-9882-085A92C1D42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9060-8D13-4466-8A67-65CA2846675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BF3-AE46-4DD9-AE7B-783D3EE0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2DB-E88E-4F0B-A256-E221B65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4BCBE-2979-4A78-BE43-CC382FB5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7418D-000F-441B-9CE7-ECAF1EE0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723FF-AB16-4E08-9C02-CE15372A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E1720-E71E-4312-9ED5-A7668E2B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3FD13-3248-4F00-94D0-EFCEA239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8B79F-979E-4D6E-86A0-DB9B8664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7A928-3DB6-4447-8D0A-98549D20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6D8C8-0FFC-4018-B5FA-787021E4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3342E-D2F8-42C2-A533-BFF500ED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C2A0E-B30F-4A8A-93B9-CE543E34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B37-E3CF-4025-A8F9-529BDF80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B15A8-1237-4D11-BDFA-65FB6458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21AF3-74A2-456D-BD82-BBA05740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2459A-83B6-478C-A579-29549075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54F18-1BED-4BCE-8EA6-FB486D4C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B1DE9-5F8D-454C-9C7E-B971E508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48BA1-76F4-4A9C-A9A3-E920891F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5E6CD-B3E5-4417-B6D3-6B696C04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9EA62-FCDC-4129-A03C-175C1E1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87593-2167-452A-A536-8DF25AED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B614C-C0EF-402F-B486-26654CD1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C1A-DEF0-4A92-B588-69F4C339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A0006-CD19-4F5E-9796-4DD1C3FB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552E11-D5E7-4A46-9FDF-B9CA3856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1E19B9-7E53-4ED0-8ADA-8BCE2DE0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41424F-4592-417D-AA23-3C039A44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E17F47-D835-4D77-93F6-B0D19875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D8714F-0F88-4B8A-9F13-C8BB184D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812275-B98D-42AF-A954-EE7293C2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5C11BC-9029-436C-942E-E205ECBB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CFC699-DAA6-457C-A436-A4DDE6CA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0335C7-FB9B-459A-B753-A21DE31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5B7A36-392A-4F00-870C-D8296339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B87C43-8805-42FA-9432-A677EA26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DE849D-DB33-48CE-93C0-B7DB8A8D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3C81A-D5E6-4196-A0A5-7B84609A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94ACE-8F37-4691-AB70-A2D69ACD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071D9-34D3-49CA-A994-1268E2D7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06CC8-9166-4803-A05C-A5793687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4AEC7-571D-4D6F-8015-90424538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C8B46-3F9E-42D3-B677-6EE39497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D1B89-D36B-4C46-97C8-5B9F39F1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204F5-1D92-4246-AB5D-4134F0E0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2C914-600B-41C1-B02A-008DF8E0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CF11E-3DA6-43CD-9F19-C47CDBB7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96960-9479-4E59-A369-0E588F85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53A9E-3487-4D7A-B04D-D65EB3A6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341DC9-BE2B-452E-848F-05059401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A07918-47B2-497D-84DF-FA34598A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6515D0-B2E8-45CB-9EB0-873C90E3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D9900D-8B93-4B11-99C5-3ACBB35D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2B1163-04AC-449C-A7B1-579D0D0E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316FEA-7FB0-4B30-8D5F-27BD0B9E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66AF5A-8086-4A80-8C65-A39F7577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618826-C257-4C72-9525-2C27D41B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7CDB3E-434A-4F0E-AC8F-1A14894F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835BFE-A458-4EEA-9BA1-FA37045B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ED9305-AD97-4C02-BEAB-B839A5CA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1AA980-C902-420D-8136-535750B7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33F63-2A52-4A14-AABB-9FC1F9F2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251F9-0C35-4A0B-A5E1-1C85E7A3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8351C-6387-40E7-B692-B5E47F2F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4F794-F3A8-46E7-9151-B4B958A4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E6E57-A630-44B3-9551-EF5AC627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23CCF-230C-46B0-A4DE-621DC7D0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F3595-BC4E-4064-AAEB-36013E8F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256A2-41E9-46B0-9322-EE012B2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EEAD2-77B0-4BA1-BE60-62CCF12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6AD0A-E9CB-49D0-89EF-352692F5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8BF87-3019-47BE-A25B-4D02CFCE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A469F-7E73-403F-9533-4912C8A1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AFFF1-E230-47BC-8747-906DEA42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0C3D8-3C4C-4A43-9EBD-6D736CE0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5C505-5B21-40DA-A468-4E611F1B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4DC65-2CE4-4503-9C00-D61C9C6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E6DEB-735F-4335-B6B7-2686867E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C61DE-52ED-4727-89B1-D923DCE0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2E3A8-5D13-4190-A25A-87B80350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0CFDF-FDDD-4FEF-B9B9-418B0B89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578A9-DF35-44D9-BAE6-40CB089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41CD1-29A4-42D4-BF1D-A4CB3DA0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28BB4-D94C-4411-B343-2A0DD8EB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DFD1B-F05A-4C66-8EA2-A05CDA69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28A3B-7DF9-414B-8139-34FBF083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678AE-AB2C-4ACE-9A62-720E6C56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BBE8B-A1DB-4BA5-AF21-BE829B90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322A0-52E9-4544-BFFA-C4562E34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8C840-EF6E-4640-B3BD-1E45BAAC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E5610-A28B-4731-9720-2F07C06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6F070-12FF-4F73-A241-71B3AA8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DA5-FFF6-46E5-806A-01D7F539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E4D54-C26E-445B-9059-6831D27E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339AE-744A-423F-AD9B-199C8B75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6877C-44C4-48DF-8CA8-AE337D9F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51FB66-07F9-4CD0-809B-5E0A3F17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842AF-CE73-4C28-AB82-BAAD6496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3E1738-25E8-415C-BEB8-8FF8A0A5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6B1B8-8944-4DED-A6EF-24442AA4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E1EAD-CF92-4735-99E1-64732DF3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94650-77F2-4D58-AE3C-10A66DA5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2F6EF-D445-434B-AB34-9886C5A5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6D67D-4D49-4C45-97B0-ED7B0496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CFFC9-3C33-4BE4-BEF8-1F9F82F2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A4444-5307-49EB-9908-73F10680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23891-45FA-4C56-8C76-8C0DDF76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F5C61-AF31-434A-95FB-3F1407DB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24203-715C-4391-B131-F72429B0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191ED-8152-4EA2-B0E1-B5A48685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C44365-5510-4511-9A35-27F6BD57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2D0DDD-B5DA-4DF8-A0CF-FDE6431D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4CFE5-778D-4BC9-A500-69AEA595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D55DD-B54B-4D99-AD41-BD005BA1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714CBD-EF98-40C4-8FFD-F65D7669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95DDC-0AAE-4655-BE32-488AF5E9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7CD2A-164D-4D0D-B124-A1687E10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8A36D-084D-472F-8C94-7D1B4AAC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BE818C-34A3-424C-A596-5D14E4BA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1C951-CD9F-47D4-9769-448F5E26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DE8D4-53EF-47CE-8ABA-71BCB207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19A5D-92E3-4BF2-A6FA-5B2372A4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4B885-ABD3-4471-B4EA-C322BED3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F98E7-C59B-4C18-9227-664145A3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4AC0B-A580-47E2-B309-076666F0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23117-3D2B-46F8-B5DB-DF27C0D8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A1A44-59EA-4695-9068-B54E1E61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A54FC3-FABB-4C85-B91B-32CD4A5E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3F5C15-DF29-49FB-A4ED-DECEA6EC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20223-7AD1-4B04-A264-BBD4329E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48B44B-7941-41B9-BC9B-79F77A4B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64AF33-359B-4651-A012-BC0EADB3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D0CC2A-7805-444F-AC84-E28BFD0E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BB8DE9-EF38-46E8-A6A7-E1D2B1D5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4B584-72E6-43E6-9856-C2309AF5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AFF73-1721-42B5-929D-9AACD622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15860-FBF6-43A0-BA8B-294BC002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BCE3D-A15A-4926-9D2B-88EFA5F8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4EB84-E943-4852-AEAD-86540BE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E69-4DC3-4F48-A5AD-C5A46CD9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317B4-D7BB-4CA6-91AC-795DB3D6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0DC65-4148-4E11-BD21-A9F0DE19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5BB9B-B0FA-44F7-8FED-F61B4C02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424A2-AC78-4656-A34F-EE80E962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E511A-C33E-4758-B164-0E3CABB7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0B196-BC3A-4B68-9B32-D5B985A4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DEA58-04B4-4DE6-A254-D173A5DB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E30-F286-4EB5-971E-85B97EA5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FA08D4-624D-41C6-A475-D2122C99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049-6811-4036-8191-6758B304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30C55A-FFB5-48B1-B905-387C2228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CCAB0A-54BF-4594-B803-955EA13F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4D6BB1-5415-4B5A-B9CC-28400BA0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BD12BA-9E35-4529-BE44-2EE242B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F0B2DD-CFC7-4193-A167-65CC2358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53C239-1867-416E-A32B-4828BAEC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FECEAB-38C2-4AA3-ABBD-2EB80E5A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B727E1-DB56-4A66-9A8D-7DCF67B4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890191-9012-483E-B6BF-8D2AC3BD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88C866-5B2A-4442-A37D-AFE8433F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D9F-D762-419E-98CC-C301D103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402599-E192-4043-88F6-E7514232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B6E2EA-34B6-4C7D-9FD8-DDD5B202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0D9C4B-DC7C-4BAC-971F-16A93824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A7020A-05CA-45F1-B12E-EC8A2678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9B4512-EC56-4964-A76B-B4B70B6F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ED096E-BD0E-476D-9565-3B2AB592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0DEEF0-A8F9-4766-A46F-5FD78951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B361E8-B13A-4B0B-A75A-F543EE3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DD8F9B-8837-4831-8155-A7B4C119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2CD76-11D5-449B-A244-37935C0C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67F-3B71-4EF4-A854-0F1E0564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3EBEEA-386E-4175-BF45-5128952E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FEE747-6037-445B-B04D-9AF75FA7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53F522-F09A-4151-98CE-2273C08C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F9F9B0-EF21-4457-A34E-F5CF9ACC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397413-07AC-4F2A-8CA0-853B599B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487585-BD9E-4BD5-8D33-CC48F100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E88457-DDF0-4F7B-AD2B-EC386335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9DB1E1-6628-4F83-B6D7-3131E2BF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810428-22D8-49D0-8FE3-ECF7BC72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F47690-5554-4E0D-88FB-978FBEF4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57C-E813-4E5E-8408-6A516205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9158F8-A007-44ED-9ACA-E3AF5F69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E1FBC5-663F-49FC-8A5D-C3202272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3898C4-0BDD-47A1-8228-758FE49C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8EECB6-C733-4C80-8546-F0AD4BB3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BA52A6-AE32-4CBA-9630-B3564628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357ABE-A6FE-4992-9AAE-EF9F4264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5BE30A-1B2A-4F7F-9C20-39BD672F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809199-E8B2-4CDE-B85B-D99F1256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FFC16E-6780-4B5D-AF60-05C39BA3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C98748-B427-41E0-BB5F-32F47282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96E-B076-4281-90F6-5B7CE46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4C05C2-85BD-4F83-8AC0-13AD8235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B4B214-A38C-47BD-AF96-75840C17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631047-C9C2-4469-91C6-76BB945E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CE3C46-6817-4933-BECA-086406A7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0FE842-4555-4961-AD77-D9A959CB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83A534-B6E6-4275-B8D5-98AD2BE1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A4CF1B-3616-436C-9205-2F56137B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0C44A-21CF-48CB-9E68-53BD2404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CF790-6736-44F8-AECE-243B5167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C284E-7C62-4626-A7C0-4FEEA523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7E8F-CA8A-4CB8-9CC3-1D6921D43B0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3ED7-2D65-43C1-9E3A-C7F44A6E6D0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2AFF-495A-451C-8AEF-5AB7F1F2C1F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7381-5F14-4F2C-B6C8-09EC6F7551B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48A3-58A7-4703-9274-7A1B51BCE60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6917-A456-42FC-84A1-C849D3ACEBD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9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D2A1-2C2F-411D-84B3-0BC60384F81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F1BC-6963-4DBA-A7B2-627DF5054D2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2E2B-C3B5-428F-8CD8-2643FBC5BF5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9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273F-B8D9-47FF-9E99-6D7F9A61E4E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63f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4d60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4655-00CE-473F-B45E-6E45A1041AB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49B8-D4BE-4453-B5A9-ED50AE500AC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3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3E03-B84F-40A6-8374-1E39A7C4982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C6E3-7269-46AF-9223-3A3A6E31D37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B296-3DD7-4371-B9CE-BFABDD379F1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6481-DA2B-4867-882F-CC7DE3395EE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F81B-567C-42D7-A8FA-F5E0225D83B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ia.net/education" TargetMode="External"/><Relationship Id="rId2" Type="http://schemas.openxmlformats.org/officeDocument/2006/relationships/hyperlink" Target="http://siia.net/events/events.asp" TargetMode="External"/><Relationship Id="rId3" Type="http://schemas.openxmlformats.org/officeDocument/2006/relationships/hyperlink" Target="http://www.siia.net/etgf" TargetMode="External"/><Relationship Id="rId4" Type="http://schemas.openxmlformats.org/officeDocument/2006/relationships/hyperlink" Target="http://www.elabs3.com/c.html?rtr=on&amp;s=gvf,1e1xn,5koo,c5ts,1ayy,k3qe,l5xr" TargetMode="External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152280" y="33526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Rockwell"/>
              </a:rPr>
              <a:t>The Learning Registry: A How To Primer for Digital Content Publishers and Aggregators</a:t>
            </a:r>
            <a:br>
              <a:rPr sz="4000"/>
            </a:b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Rockwell"/>
              </a:rPr>
              <a:t>December 20, 2011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6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Any form of metadata can be shared, but the community today is focused on exchanging specific metadata around resources and standards alignment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0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ommon Core implementation is accelerating demand for quality digital content that has been aligned to standards by curricular expert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s well as resources that have been vetted by educators for relevancy to specific standard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standards aligned learning resources are dispersed across the web and teachers have too little time to find them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knowledge about what learning resources are useful is not shared across the web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have the web tools to create rich resource discovery experiences and usage data…but how do we share?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haring standards alignment data through Learning Registry can help put relevant content  in the hands of teacher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nd illuminate the “social life” of learning resource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How-to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285640" y="2752560"/>
            <a:ext cx="6134040" cy="17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With Learning Registry technology today it is possible to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onsum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 standards alignment data from others, and to share standards alignment data about your resourc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1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286000" y="27428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In order to participate you will either run a Learning Registry server (called a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nod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), or partner with an organization who is running a node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7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86000" y="2743200"/>
            <a:ext cx="6019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 node maintains a copy of the metadata and provides the APIs to publish and consume it.  Nodes are infrastructure, you build applications that use  i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3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285640" y="2590560"/>
            <a:ext cx="563868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day, the Federal government is running three nodes, and there are several other organizations running or planning to run nod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nnouncement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o access the audio of this webinar, you must dial 866-740-1260, 7894444#.  Audio is NOT available via the web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is webcast is being recorded. The audio visual file and presentation slides will be available on the SIIA Education Division home page.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1"/>
              </a:rPr>
              <a:t>www.siia.net/education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ubmit questions at any time via the 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Chat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”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featur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IIA Events: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2"/>
              </a:rPr>
              <a:t>http://siia.net/events/events.asp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BETT 2012, January in Lond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Government Forum, March 7-8 in DC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3"/>
              </a:rPr>
              <a:t>www.siia.net/etg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Industry Summit, May 6-8 in SF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Business Forum, Nov 28–29, 2011 – Archive at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4"/>
              </a:rPr>
              <a:t>http://bit.ly/OnlineETB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7279-C34E-46E6-AE81-79A105AD3F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o read metadata out of Learning Registry your technical team needs to process a JSON header, and pull either JSON or XML metadata into your data system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89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 send metadata to the Learning Registry your technical team needs to publish a cryptographic “public key,” and convert your internal metadata into a format the larger community is using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285640" y="2981160"/>
            <a:ext cx="60958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estimate that it will take an engineer familiar with web technologies about 3 days to publish data into production. Consuming data is more variable depending on how you will use them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urrently the Learning Registry mainly contains metadata, published from a number of collaborators, about resource classification and usage data. 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tandards alignment data is shared as both classification data (New York state officially aligned Resource X to Standard Y), and as usage data (Teachers of migrant students used Resource X in a lesson aligned to Standard Y)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204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Multiple existing metadata formats can be used for sharing classification data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Learning Registry community has created new formats for sharing usage data that function more like social networking data than library data. Other formats may emerge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285640" y="259092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standards alignment metadata work is largely waiting on the publication of universal metadata ID’s for common core standards to be published by NGA/CCSSO in early January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would encourage you to have your engineers engage with our technical team to begin understanding what specific approaches will work for you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40080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Interested parties should join the Learning Registry announcement mail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registry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Product and system managers should join the collaboration mailing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-registry-collaborate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genda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lcome - Mark Schneiderman, SIIA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Overview &amp; Speaker Introductions – Gail Lewis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Background, Status and Goals – Steve Midg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How To Primer – Steve Midgley and Susan Van Gund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Reaction / Q&amp;A - Al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7755-C439-4A9D-AAF4-9969184E21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Appropriate technology staff should join the technical mailing list:</a:t>
            </a:r>
            <a:br>
              <a:rPr sz="1700"/>
            </a:br>
            <a:br>
              <a:rPr sz="17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groups.google.com/group/learningreg-dev/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6324480" cy="16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Documentation and information is available at: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/documents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Open licensed source code and a developer wiki is available at:</a:t>
            </a:r>
            <a:br>
              <a:rPr sz="2300"/>
            </a:br>
            <a:br>
              <a:rPr sz="23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s://github.com/LearningRegistry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520" y="4624560"/>
            <a:ext cx="6172200" cy="12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Thank You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800600" y="53341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Many slides credit to: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aniel R Rehak, PhD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ADL Technical Advisor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epartment of Defense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304920" y="4460760"/>
            <a:ext cx="2171520" cy="2171880"/>
          </a:xfrm>
          <a:prstGeom prst="rect">
            <a:avLst/>
          </a:prstGeom>
          <a:ln w="0">
            <a:noFill/>
          </a:ln>
        </p:spPr>
      </p:pic>
      <p:sp>
        <p:nvSpPr>
          <p:cNvPr id="1032" name="Subtitle 2"/>
          <p:cNvSpPr/>
          <p:nvPr/>
        </p:nvSpPr>
        <p:spPr>
          <a:xfrm>
            <a:off x="2286000" y="47242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 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Deputy Direct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Office of Ed T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US Dept of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.midgley@ed.gov / @steve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ubtitle 2"/>
          <p:cNvSpPr/>
          <p:nvPr/>
        </p:nvSpPr>
        <p:spPr>
          <a:xfrm>
            <a:off x="457200" y="167652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www.learningregi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473760" y="9907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Learning Reg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Speaker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eve Midgley, Deputy Director of Education Technology, U.S. Departmen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usan Van Gundy, Director of Education and Strategic Partnerships, National Science, Technology, Engineering, and Mathematics Digital Library (NSDL)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Gail Lewis (Moderator), Senior Product Manager, Capstone Digita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89CF-AAD1-4E33-8644-6DE116481B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e Learning Registry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Projec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800600" y="5346360"/>
            <a:ext cx="40384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Primary Funding from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Defens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8" name="Subtitle 2"/>
          <p:cNvSpPr/>
          <p:nvPr/>
        </p:nvSpPr>
        <p:spPr>
          <a:xfrm>
            <a:off x="609480" y="5334120"/>
            <a:ext cx="5181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Overview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istributed system that permits sharing of metadata about learning resources..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developed through an open community process that engages learning resource creators, publishers, curators, and consumer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ata exchange mechanism—not a destination website, search engine, or repository—upon which diverse user services can be buil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31:48Z</dcterms:created>
  <dc:creator>Rehak</dc:creator>
  <dc:description/>
  <dc:language>en-US</dc:language>
  <cp:lastModifiedBy> </cp:lastModifiedBy>
  <cp:lastPrinted>2010-09-27T13:40:12Z</cp:lastPrinted>
  <dcterms:modified xsi:type="dcterms:W3CDTF">2012-01-03T20:43:44Z</dcterms:modified>
  <cp:revision>524</cp:revision>
  <dc:subject/>
  <dc:title>Advanced Learning Technologies Innovation Strategy</dc:title>
</cp:coreProperties>
</file>