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2.png" ContentType="image/png"/>
  <Override PartName="/ppt/media/image17.wmf" ContentType="image/x-wmf"/>
  <Override PartName="/ppt/media/image16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FC55-0DB4-405D-A978-BE6515513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239D-DC27-48DB-8191-7994B0C0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12C6-49A7-4E1A-9310-B246B7BA0258}" type="slidenum">
              <a:rPr b="0" lang="en-US" sz="1200" spc="-1" strike="noStrike">
                <a:solidFill>
                  <a:srgbClr val="000066"/>
                </a:solidFill>
                <a:latin typeface="Book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978-6C47-48C0-AAE0-104A582F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616-7DBE-4390-BF2A-FF50906D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D0C-D393-48CF-B8F2-B91FAFE3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230-2D8A-40E4-9FBA-BADD7041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0604-AAA8-4FEA-A3E6-8A06802D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D704-A547-483D-8624-B19402F1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183E-0240-4A12-8FD7-078608CC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AC37-9C1E-4889-8F94-D2B55163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64DC-50EA-493B-BECC-1DBC9F95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D7D7-0F20-41A6-8874-F97F4D24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FB2E-ACEE-49C9-904C-AE452319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6E1-628E-47C1-B03D-3060B36A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8AED-754D-40B4-9161-DE67792B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D1A8-C905-497A-B552-D3E9F3C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0A26-8D94-4F09-8B9C-14FB8B8B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F1A2-A703-4688-8353-8E5901FB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EF5D-94A7-4509-8E77-49438E97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D258-A7C4-41CC-A2AD-8159FC59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BC8D-2C11-4EE2-8D64-566A2944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4FA4-5189-45AF-A839-0314721E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9BAD-03E5-4769-B900-E8A2CF4E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2F561-90E2-4A82-AE6C-AF462069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25E-D3DB-4E6A-8E5D-9D58224B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73E6-9A51-446C-91B3-C1FBD1CD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847C-30F8-46FA-81DB-75542C1F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56EF-D56A-4829-A612-15282FEF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F96D-76DB-46CB-A60C-CC9809D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5A090-118D-456C-8E89-D87A6DB0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6814-F552-4EDE-A77D-58EA4C8F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52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6844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52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6844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7D6F-3C62-4C15-ABF0-F6C9A09D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1E08-3788-4A7A-A77C-3FAD6736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D8A-2E8C-452D-AB5F-7ABE8C67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066-1C69-48A4-8CE2-3D010C5C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4D8-4FB7-4DAC-943B-D70C430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33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F7A-5A99-44E9-BE2C-37F3410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721-158A-49D4-8031-9ABB7A9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5243-B45A-483F-9290-31F26A635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ageLeft"/>
          <p:cNvPicPr/>
          <p:nvPr/>
        </p:nvPicPr>
        <p:blipFill>
          <a:blip r:embed="rId2"/>
          <a:stretch/>
        </p:blipFill>
        <p:spPr>
          <a:xfrm>
            <a:off x="380880" y="304920"/>
            <a:ext cx="1017720" cy="3646440"/>
          </a:xfrm>
          <a:prstGeom prst="rect">
            <a:avLst/>
          </a:prstGeom>
          <a:ln w="0">
            <a:noFill/>
          </a:ln>
        </p:spPr>
      </p:pic>
      <p:sp>
        <p:nvSpPr>
          <p:cNvPr id="43" name="Line 3"/>
          <p:cNvSpPr/>
          <p:nvPr/>
        </p:nvSpPr>
        <p:spPr>
          <a:xfrm>
            <a:off x="380880" y="304920"/>
            <a:ext cx="0" cy="601956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44" name="Picture 4" descr="PageLogo"/>
          <p:cNvPicPr/>
          <p:nvPr/>
        </p:nvPicPr>
        <p:blipFill>
          <a:blip r:embed="rId3"/>
          <a:stretch/>
        </p:blipFill>
        <p:spPr>
          <a:xfrm>
            <a:off x="7589880" y="301680"/>
            <a:ext cx="1096920" cy="76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596A-6B48-4C9A-A1F0-99E626F16EA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380880" y="304920"/>
            <a:ext cx="731520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51" name="Picture 11" descr="PageLowerRight"/>
          <p:cNvPicPr/>
          <p:nvPr/>
        </p:nvPicPr>
        <p:blipFill>
          <a:blip r:embed="rId4"/>
          <a:stretch/>
        </p:blipFill>
        <p:spPr>
          <a:xfrm>
            <a:off x="7924680" y="5791320"/>
            <a:ext cx="5367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overBlueBox"/>
          <p:cNvPicPr/>
          <p:nvPr/>
        </p:nvPicPr>
        <p:blipFill>
          <a:blip r:embed="rId2"/>
          <a:stretch/>
        </p:blipFill>
        <p:spPr>
          <a:xfrm>
            <a:off x="2182680" y="4213080"/>
            <a:ext cx="4778640" cy="180684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>
            <a:off x="380880" y="304920"/>
            <a:ext cx="8153640" cy="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380880" y="304920"/>
            <a:ext cx="0" cy="5867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pic>
        <p:nvPicPr>
          <p:cNvPr id="91" name="Picture 8" descr="CoverLeft"/>
          <p:cNvPicPr/>
          <p:nvPr/>
        </p:nvPicPr>
        <p:blipFill>
          <a:blip r:embed="rId3"/>
          <a:stretch/>
        </p:blipFill>
        <p:spPr>
          <a:xfrm>
            <a:off x="407880" y="384120"/>
            <a:ext cx="1268640" cy="449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CoverLogo"/>
          <p:cNvPicPr/>
          <p:nvPr/>
        </p:nvPicPr>
        <p:blipFill>
          <a:blip r:embed="rId4"/>
          <a:stretch/>
        </p:blipFill>
        <p:spPr>
          <a:xfrm>
            <a:off x="3581280" y="380880"/>
            <a:ext cx="1874880" cy="130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C108-93CF-482E-9B22-3DAF651D9AA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ast Series - Global Ed Tech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on the United Kingd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2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Fro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candinavian, founded in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35 employees, 10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cquired by Pearson lat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onter Learning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Learning platform for K12 and Higher 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8 million users, 10 thousand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1/3 of all Local Authorities in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2500 school in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Roger Lar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굴림"/>
              </a:rPr>
              <a:t>Founder and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1212840" cy="803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show_image"/>
          <p:cNvPicPr/>
          <p:nvPr/>
        </p:nvPicPr>
        <p:blipFill>
          <a:blip r:embed="rId2"/>
          <a:stretch/>
        </p:blipFill>
        <p:spPr>
          <a:xfrm>
            <a:off x="6477120" y="3124080"/>
            <a:ext cx="1030320" cy="1633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3"/>
          <a:stretch/>
        </p:blipFill>
        <p:spPr>
          <a:xfrm>
            <a:off x="6172200" y="5257800"/>
            <a:ext cx="1727280" cy="68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rated Panel 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re will be a ded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 session at the close of the webcast you may submit questions at any time using the chat feature to the right of your scr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One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UK landscape for education technology products and servic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6858000" y="4038480"/>
            <a:ext cx="1438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wo for 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K purcha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work for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roduct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nd how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ompanies gain entré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5905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government spending trends and what technologies are gaining traction in UK schoo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981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echnologies are seeing a decline in usage and what opportunities should ed tech companies focus on in the current and coming peri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867280" y="5143680"/>
            <a:ext cx="2681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11C-6D81-4D4B-828C-1A0E78215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the Aud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0574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2AF8-5116-4655-99A0-28EFFA200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5235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ing Announc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the post webcast survey to tell us what you thought of today’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d Tech Industry Market Watch: PreK-12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he Global Working Gro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by conference call on second Monday of the month at 3 pm eas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DAF0-E39D-4E59-B20D-53B2C4DF3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1760" y="14479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ing us to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450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604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and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Moderators and Panel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7FF7-4202-44FF-87F8-3F2626359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082520"/>
            <a:ext cx="6885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&amp; Intro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ments:  Tasiyiwa Mapond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bcast session is being recorded. The audio file, additional information and slide presentations will be available on the SIIA Education Division hom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questions via the “Chat”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Ed Tech Industry Market Watch: Pre-K-12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Tech Business Forum, Nov 30 – Dec 1 in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Listening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i Jett, General Manager, netTrek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Samuelson, President Global Schools, Pea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y Barker, Director, B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Larsen, Founder and CEO, Fro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e focus on the U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’s Global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trategies and Strategic Partnerships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9 SIIA Ed Tech Business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owing Glob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oday’s sp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80A2-07BF-48D0-AE6C-28A70C3F4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Samue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, Global Schools, Pe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IA Education Board Member sinc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Chair, SIIA Ed Board Global Strategies and Strategic Partnerships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20560" y="1359000"/>
            <a:ext cx="8012160" cy="5454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son Glob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AD84-4F8F-403D-8E74-15B3F5C37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to:  ….go do something good for k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 in the delivery of digital K-12 education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o market with a standards-based educational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ng over 10 million students and educator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in Asia, Middle East, India, and coming to UK at B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nT_logo_-_color.jpeg"/>
          <p:cNvPicPr/>
          <p:nvPr/>
        </p:nvPicPr>
        <p:blipFill>
          <a:blip r:embed="rId1"/>
          <a:stretch/>
        </p:blipFill>
        <p:spPr>
          <a:xfrm>
            <a:off x="1676520" y="762120"/>
            <a:ext cx="4724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8BF9-0BC9-43D5-B2FA-218C431E0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tish Educational Suppliers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ade association for the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supply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im to unite and inform – and improve the business of our members. We aim to create a level playing field for commercial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085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7:45:52Z</dcterms:created>
  <dc:creator>Kevin Custer</dc:creator>
  <dc:description/>
  <dc:language>en-US</dc:language>
  <cp:lastModifiedBy>Karen Billings</cp:lastModifiedBy>
  <cp:lastPrinted>2001-11-28T04:39:16Z</cp:lastPrinted>
  <dcterms:modified xsi:type="dcterms:W3CDTF">2009-10-20T21:31:02Z</dcterms:modified>
  <cp:revision>153</cp:revision>
  <dc:subject/>
  <dc:title>No Slide Title</dc:title>
</cp:coreProperties>
</file>