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2.png" ContentType="image/png"/>
  <Override PartName="/ppt/media/image17.wmf" ContentType="image/x-wmf"/>
  <Override PartName="/ppt/media/image16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4DFD-F574-4B7F-847A-557073B34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E2F0-23A3-428F-B9F2-768DF6DE3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1785-58FB-4175-BB45-41312C005BED}" type="slidenum">
              <a:rPr b="0" lang="en-US" sz="1200" spc="-1" strike="noStrike">
                <a:solidFill>
                  <a:srgbClr val="000066"/>
                </a:solidFill>
                <a:latin typeface="Book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8D8-8AB4-4CD7-92C4-A0C86C02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D36-A4CD-4CB8-8C11-CAA86F3D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E08-EED7-41E7-8E3A-62682DE2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9A2-B4EF-4430-89A2-6E8C5382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1CF8-E38F-4135-B5A3-3C04A647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79D9-5328-4845-A69D-20C3DC3D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1459-3D90-4FF6-927C-FE2443A7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EB6B-2113-4442-9A09-384D2CC2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4E3C-ED2A-4C24-8FE3-0321634D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2068-AA7D-48DD-BCD6-1894F988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9575-26BC-42DA-8A0F-44181EC1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058-2B78-4884-97A6-4C4B9ACA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CA7D-BA90-4C23-9A4F-AF3D9DF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F6ED-7F0A-43BD-A837-B1B86A5F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ACFA-FA80-42B4-8EA7-ACC0F272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9813-493C-4D60-B4DA-7EC1E72A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9960-3237-418E-9632-9EC63359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4B95-C880-4EC1-9FEE-D8C99990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6C8F-0B86-435C-A4AE-9DCA8287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8906-7582-4A53-978A-48559C4E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B629-0327-472C-9D22-DD4EBA0C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ED98-B4D5-4536-B5A9-0CA84012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D10-B2A3-46FD-B075-86055B86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7096-5332-42AB-9975-46AE15C6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0306-57D6-41E0-993B-E3D202D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B627-00CC-4E04-8799-EB9306A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D409-6286-46C2-A3AD-6E2C6286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F494-98C4-4A19-B46E-1E9E42C3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0579-67F6-4670-A896-E404C855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F1AD-02C5-4D12-82B6-E6BD5379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9C1-B6C0-427C-8AC9-C1FB94F8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8B0-B5B2-4B91-A534-783396E2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919-87B6-480D-AEE3-8C42080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142-8217-4581-949A-626D12C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923-52F0-4EF7-8EA9-B76E907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F8F-5B7E-474F-8AE5-EA22A0BA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CC7E-5643-4BC0-88DF-73135DAFC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ageLeft"/>
          <p:cNvPicPr/>
          <p:nvPr/>
        </p:nvPicPr>
        <p:blipFill>
          <a:blip r:embed="rId2"/>
          <a:stretch/>
        </p:blipFill>
        <p:spPr>
          <a:xfrm>
            <a:off x="380880" y="304920"/>
            <a:ext cx="1017720" cy="3646440"/>
          </a:xfrm>
          <a:prstGeom prst="rect">
            <a:avLst/>
          </a:prstGeom>
          <a:ln w="0">
            <a:noFill/>
          </a:ln>
        </p:spPr>
      </p:pic>
      <p:sp>
        <p:nvSpPr>
          <p:cNvPr id="43" name="Line 3"/>
          <p:cNvSpPr/>
          <p:nvPr/>
        </p:nvSpPr>
        <p:spPr>
          <a:xfrm>
            <a:off x="380880" y="304920"/>
            <a:ext cx="0" cy="601956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44" name="Picture 4" descr="PageLogo"/>
          <p:cNvPicPr/>
          <p:nvPr/>
        </p:nvPicPr>
        <p:blipFill>
          <a:blip r:embed="rId3"/>
          <a:stretch/>
        </p:blipFill>
        <p:spPr>
          <a:xfrm>
            <a:off x="7589880" y="301680"/>
            <a:ext cx="1096920" cy="76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2678-B59E-412F-8CCE-DB16EF197D5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380880" y="304920"/>
            <a:ext cx="73152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51" name="Picture 11" descr="PageLowerRight"/>
          <p:cNvPicPr/>
          <p:nvPr/>
        </p:nvPicPr>
        <p:blipFill>
          <a:blip r:embed="rId4"/>
          <a:stretch/>
        </p:blipFill>
        <p:spPr>
          <a:xfrm>
            <a:off x="7924680" y="5791320"/>
            <a:ext cx="5367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overBlueBox"/>
          <p:cNvPicPr/>
          <p:nvPr/>
        </p:nvPicPr>
        <p:blipFill>
          <a:blip r:embed="rId2"/>
          <a:stretch/>
        </p:blipFill>
        <p:spPr>
          <a:xfrm>
            <a:off x="2182680" y="4213080"/>
            <a:ext cx="4778640" cy="180684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>
            <a:off x="380880" y="304920"/>
            <a:ext cx="815364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380880" y="304920"/>
            <a:ext cx="0" cy="5867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91" name="Picture 8" descr="CoverLeft"/>
          <p:cNvPicPr/>
          <p:nvPr/>
        </p:nvPicPr>
        <p:blipFill>
          <a:blip r:embed="rId3"/>
          <a:stretch/>
        </p:blipFill>
        <p:spPr>
          <a:xfrm>
            <a:off x="407880" y="384120"/>
            <a:ext cx="1268640" cy="449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overLogo"/>
          <p:cNvPicPr/>
          <p:nvPr/>
        </p:nvPicPr>
        <p:blipFill>
          <a:blip r:embed="rId4"/>
          <a:stretch/>
        </p:blipFill>
        <p:spPr>
          <a:xfrm>
            <a:off x="3581280" y="380880"/>
            <a:ext cx="1874880" cy="130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4ED7-0668-400F-BA9A-D4220905A0E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ast Series - Global Ed Tech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on the United Kingd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2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ro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candinavian, founded i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35 employees, 10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cquired by Pearson lat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Learning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Learning platform for K12 and Higher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8 million users, 10 thousand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1/3 of all Local Authorities in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2500 school in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Roger Lar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Founder and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1212840" cy="80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show_image"/>
          <p:cNvPicPr/>
          <p:nvPr/>
        </p:nvPicPr>
        <p:blipFill>
          <a:blip r:embed="rId2"/>
          <a:stretch/>
        </p:blipFill>
        <p:spPr>
          <a:xfrm>
            <a:off x="6477120" y="3124080"/>
            <a:ext cx="1030320" cy="1633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1727280" cy="68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rated Panel 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re will be a ded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 session at the close of the webcast you may submit questions at any time using the chat feature to the right of your scr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ne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UK landscape for education technology products and servic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6858000" y="4038480"/>
            <a:ext cx="143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wo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K purcha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work for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roduc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nd how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ompanies gain entré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5905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overnment spending trends and what technologies are gaining traction in UK schoo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981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echnologies are seeing a decline in usage and what opportunities should ed tech companies focus on in the current and coming peri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867280" y="5143680"/>
            <a:ext cx="2681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C2D1-0D98-4CA6-898D-DD236D5AB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the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057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FAB-900C-4339-9A12-4F9B877B9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ing Annou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the post webcast survey to tell us what you thought of today’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d Tech Industry Market Watch: PreK-12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he Global Working Gro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by conference call on second Monday of the month at 3 pm eas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2975-BF36-4C31-A568-A3EFCFD96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ing us to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45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604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and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Moderators and Pane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0FE8-2F32-495E-8994-0AEA4F745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082520"/>
            <a:ext cx="6885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&amp; Intro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:  Tasiyiwa Mapond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bcast session is being recorded. The audio file, additional information and slide presentations will be available on the SIIA Education Division hom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questions via the “Chat”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d Tech Industry Market Watch: Pre-K-12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Tech Business Forum, Nov 30 – Dec 1 in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Listening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i Jett, General Manager, netTr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Samuelson, President Global Schools, Pea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Barker, Director, B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Larsen, Founder and CEO, Fro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focus on the U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’s Global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trategies and Strategic Partnerships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9 SIIA Ed Tech Busines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wing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oday’s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6AF2-1D38-4B12-B8B2-1BF3F4582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Samue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, Global Schools, Pe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 Education Board Member sinc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Chair, SIIA Ed Board Global Strategies and Strategic Partnerships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20560" y="1359000"/>
            <a:ext cx="8012160" cy="5454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so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AA2C-E810-4C9C-BFFC-4CF389852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 ….go do something good for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 in the delivery of digital K-12 education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o market with a standards-based educational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over 10 million students and educator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in Asia, Middle East, India, and coming to UK at 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nT_logo_-_color.jpeg"/>
          <p:cNvPicPr/>
          <p:nvPr/>
        </p:nvPicPr>
        <p:blipFill>
          <a:blip r:embed="rId1"/>
          <a:stretch/>
        </p:blipFill>
        <p:spPr>
          <a:xfrm>
            <a:off x="1676520" y="762120"/>
            <a:ext cx="4724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EA73-C068-4E7B-9E16-E9DB03960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tish Educational Suppliers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ade association for the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supply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im to unite and inform – and improve the business of our members. We aim to create a level playing field for commercia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7:45:52Z</dcterms:created>
  <dc:creator>Kevin Custer</dc:creator>
  <dc:description/>
  <dc:language>en-US</dc:language>
  <cp:lastModifiedBy>Karen Billings</cp:lastModifiedBy>
  <cp:lastPrinted>2001-11-28T04:39:16Z</cp:lastPrinted>
  <dcterms:modified xsi:type="dcterms:W3CDTF">2009-10-20T21:31:02Z</dcterms:modified>
  <cp:revision>153</cp:revision>
  <dc:subject/>
  <dc:title>No Slide Title</dc:title>
</cp:coreProperties>
</file>